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028-296F-435D-8C03-997C0588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AB5-17F4-4642-92E5-CA3BA809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9C3F-7D20-42E6-B676-B6BB48AB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13D-62C5-4869-AC79-876B46B7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E4CD-8D74-4271-B532-0B45BFC7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1245-68D1-46F0-8450-39C6204F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60C7-1ADF-4306-897E-5753EE5E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7AD0-6B18-42B3-8ABA-551FB275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7872-D302-4CD2-9BDC-488D3544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1A27-EBF0-4658-8A87-D1ED4DDD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FEEA-F45D-40B7-89CE-DFDCA097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51B4-B78B-4847-8C3A-4491D09A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BBFC-7DA8-42DF-8D4E-CC0E5760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CEF4-4F6C-4899-B34D-AB4EB275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B226-41C8-49B8-A4C7-CD0BAD7F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0DB6-3DA8-4431-8883-B42DD37C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2F87-1C11-4C2D-B56B-DDE3A19F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579DD-4114-4FA0-92AA-9111C84C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2C926-1FF2-4BA4-91D6-90F9BB7D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2BBA6-6EDA-45B3-9078-0D560A2F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C8DFA-0AFB-4F97-815C-DDD2D6B5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CFA72-CF0A-45A1-A835-C44B61A1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D67-7D7D-491A-9C75-68FE4B47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EC8B1-CCA1-4F70-BD05-2A3CDFF2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ECDA1-D01C-4773-A615-94CCD72D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49D3C-462B-4E45-948D-234EA05F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7AB45-EDD0-4D1B-B190-F6B48EA6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34EF0-824A-4246-8778-20BB7310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0243E-247F-421C-AB90-1949E651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FF131-2D83-474F-B23E-5E50DFF8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F2B0F-F519-4B92-94C8-A63AF775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A2DEF-B723-4022-B892-74E6F9C7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1E70D-E931-4B66-A104-D22E5AA7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FF0-A4C9-418D-AB0F-5A12730B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D90D5-5598-4B2F-BEC0-0EE8F9EA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F8866-7F2B-4A9B-AB46-73D7EF78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9F659-6537-449D-896B-612B75CD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F8027-AB73-4917-8EE3-08D50C5A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8E0D8-FD20-4B09-9B71-6B22E19F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E4612-DAF6-4CE2-AAA5-ED6A2BF2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9F02C-04BE-4E6C-A91B-FD038441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806B8-82D0-49F9-B023-D103C028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E9D2A-35A9-410D-B2E5-28DFA00B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0DF85-A303-4624-8966-2065E6DD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1FC2-36BB-4BD5-9077-D0867574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596DF-2649-4774-B0DB-EECFB079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C5425-184C-4B27-B19F-388BBD04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7C3CD-1E6A-40D4-987B-9E3744DE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FCF75-B865-4E96-813F-614FF0F1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CB453-C786-4DD7-9D4C-61D2D5E7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1EADE-DDB8-4A87-9330-6E02B605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E222C-03E1-4110-B9E2-6CC73BB0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A3906-4B71-4E16-9ACB-2DFF8AF4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25D68-2DE2-4FF5-8527-92D07EB4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2F689-BBAD-4322-A93D-549C98CB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F2DC-649B-4F75-9E2C-8A4F9900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95D85-69FF-497F-887D-991D86B2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EA701-37F8-4BB4-BAF1-FE1D4B63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41A6F-3CFA-4A60-8EA3-4142FC71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9ED2F-28A5-4FC8-B701-17AFD150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0E26B-E85D-49DF-8680-4D656E95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819BD-B9AC-437B-B855-6F734908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862BF-DE0D-48E3-97D9-678D003A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5A81B-0B09-4614-8F1D-85B30DBC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041FC-16D4-4817-B9F5-12EFC5F8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19BAA-328D-43BE-A72E-2CAA78C7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73D-12E9-423A-B8AE-6768DB52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41961-FD41-4700-A27A-82C94765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2BB97-C816-41DE-A3E8-341CC510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5EC6B-0E05-4A38-9B07-A1EAF7C9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3D9-D75D-48FC-AB08-4F22B167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2892-2AF8-4F1C-99FC-D408366B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B012-8F73-42A4-9CFB-DEA292234D7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A61D-9C22-4C0F-A3E5-685A9AE7C9E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A9A2-C3DF-4729-B9E7-92AC4CDBE8C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CD6C-EBC9-42AE-BA0D-81A2F2C6608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EBD9-C6C1-40F7-80A5-9E5214EB1E8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056A-F14A-4C14-864A-F7FED6C5D3A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Урок русского языка в 7 класс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1295280" y="1295280"/>
            <a:ext cx="7572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авописание производных предл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Е или И? Кто быстрее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38080" y="27428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1.В течени… дня заросли неузнаваемо изменилис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2.Ошибки допущены вследстви… невнимательност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. В продолжени… романа появятся новые геро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4. Мели постоянно попадались в течени… рек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5. Шорох и шёпот слышались в продолжени… час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4"/>
          <p:cNvSpPr/>
          <p:nvPr/>
        </p:nvSpPr>
        <p:spPr>
          <a:xfrm flipH="1">
            <a:off x="1175760" y="7010280"/>
            <a:ext cx="18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ш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143000" y="12952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пишите на листке рядом с номером предложения вставленную букв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 или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752480" y="2361960"/>
            <a:ext cx="3810240" cy="3724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.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4.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5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Вставьте буквы, выпишите их, прочитайте получившееся слово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3280" y="1295280"/>
            <a:ext cx="368784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штем…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тт…ст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негре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…ика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…лон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с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…ссажи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…т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…нвер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наря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…ьб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…з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990720" y="27432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гаться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)пере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онны, обойти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о)кру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мятника, спешить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на)встреч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ости, пройти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по)з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оящего трамвая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т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, (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не)смотря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асность, перевести деньги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счё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банке, поговорить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счё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кзаменов; (не) смотря на доску, решил задачу;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связ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переездом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след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погоды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продол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подоб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ве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3280" y="16002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игаться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вперед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лонны, обойти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вокруг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амятника, спешить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навстречу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асности, пройти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позад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тоящего трамвая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теч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года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есмотря 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пасность, перевести деньги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 счё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банке, поговорить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счёт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кзаменов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е смотря 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ску, решил задачу;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связи с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ереездом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следств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епогоды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продолж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года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подоб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цвет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7"/>
          <p:cNvSpPr/>
          <p:nvPr/>
        </p:nvSpPr>
        <p:spPr>
          <a:xfrm>
            <a:off x="312408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371600" y="954000"/>
            <a:ext cx="65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м правописание нареч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кройте скобки, вставьт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914400" y="232560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)век, (на)отмаш…, точь(в)точь, бок(о)бок, (в)ручную, (по)ребячески, (во)первых, (по)нашему, (ото)всюду,  (не)жданно, (не)однократно, (не)правдиво, а лжив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чуть (не)интересно, снов…, досрочн…, навзнич…, замуж…, (мало)помалу. (еле)еле, (не)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им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1828440"/>
            <a:ext cx="8183520" cy="3962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век, наотмашь, точь - в -точь, бок о бок, вручную, по-ребячески, во-первых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-нашему, отовсюду,  нежданно, неоднократно, не правдиво, а лживо,  ничуть не интересно, снова, досрочно, навзничь, замуж, мало-помалу,  еле -еле, не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rganization Chart 7"/>
          <p:cNvGrpSpPr/>
          <p:nvPr/>
        </p:nvGrpSpPr>
        <p:grpSpPr>
          <a:xfrm>
            <a:off x="755640" y="549360"/>
            <a:ext cx="7776000" cy="5902920"/>
            <a:chOff x="755640" y="549360"/>
            <a:chExt cx="7776000" cy="5902920"/>
          </a:xfrm>
        </p:grpSpPr>
        <p:cxnSp>
          <p:nvCxnSpPr>
            <p:cNvPr id="273" name="_s1028"/>
            <p:cNvCxnSpPr>
              <a:stCxn id="274" idx="0"/>
              <a:endCxn id="275" idx="2"/>
            </p:cNvCxnSpPr>
            <p:nvPr/>
          </p:nvCxnSpPr>
          <p:spPr>
            <a:xfrm flipV="1">
              <a:off x="6865200" y="423792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6" name="_s1029"/>
            <p:cNvCxnSpPr>
              <a:stCxn id="277" idx="0"/>
              <a:endCxn id="278" idx="2"/>
            </p:cNvCxnSpPr>
            <p:nvPr/>
          </p:nvCxnSpPr>
          <p:spPr>
            <a:xfrm flipV="1">
              <a:off x="2421360" y="423792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75" idx="1"/>
              <a:endCxn id="280" idx="2"/>
            </p:cNvCxnSpPr>
            <p:nvPr/>
          </p:nvCxnSpPr>
          <p:spPr>
            <a:xfrm rot="10800000">
              <a:off x="4642920" y="2024280"/>
              <a:ext cx="555840" cy="14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1" name="_s1031"/>
            <p:cNvCxnSpPr>
              <a:stCxn id="278" idx="3"/>
              <a:endCxn id="280" idx="2"/>
            </p:cNvCxnSpPr>
            <p:nvPr/>
          </p:nvCxnSpPr>
          <p:spPr>
            <a:xfrm flipV="1">
              <a:off x="4088160" y="2024280"/>
              <a:ext cx="555840" cy="14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0" name="_s1032"/>
            <p:cNvSpPr/>
            <p:nvPr/>
          </p:nvSpPr>
          <p:spPr>
            <a:xfrm>
              <a:off x="2977200" y="54936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о происхождению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редлоги бывают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75564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непроизводны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519912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производны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1035"/>
            <p:cNvSpPr/>
            <p:nvPr/>
          </p:nvSpPr>
          <p:spPr>
            <a:xfrm>
              <a:off x="75564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В, на, за, из-за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из-под, по-над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из, под, у, от и т.д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036"/>
            <p:cNvSpPr/>
            <p:nvPr/>
          </p:nvSpPr>
          <p:spPr>
            <a:xfrm>
              <a:off x="519912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Ввиду, вследствие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навстречу,вроде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несмотря на и т.д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Правописание производных предлогов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990720" y="1295280"/>
          <a:ext cx="7619760" cy="425952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Сли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дель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следствие(=по причин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роде         (=подоб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подобие (=подоб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место(=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счет(=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виду(=из-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есмотря на(=вопрек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течение               (=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продол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целях (=дл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Со стороны  (=о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По причине   (=дл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заключение(=в итог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2514600" y="53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спомн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143000" y="1295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благод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838080" y="21337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хорошей пог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спортивным успех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обеди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выигра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4724280" y="1371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вследствие, из-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105520" y="502920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4724280" y="22860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лохой по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спортивных неу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отерпел поражение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роигра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азличайте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0" y="1219320"/>
          <a:ext cx="9144000" cy="5638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г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части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ься в течение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ься вследствие непог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хать в продолжение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ворить насчет пох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йти вместо др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спеть ввиду опоз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елать, несмотря на труд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ороты в течении 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едствии по делу о кра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йте в продолжении ром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ести на счет в ба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ть в место сбора отряд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йте это в вид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мотря на прохож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Е или И? Если вставили Е, выпишите первое слово из предложения, если И- второе. Прочитайте получившееся предложение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762120" y="1981080"/>
            <a:ext cx="815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м нужно идти в течени… цело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овороты следует искать в течени… ре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но отыскать ошибки в следстви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товый флажок отяжелел вследстви… дож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фр меняют в продолжени…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3280" y="2514240"/>
            <a:ext cx="8183520" cy="2203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вас должно получиться предложе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Verdana"/>
              </a:rPr>
              <a:t>       </a:t>
            </a: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Вам следует отыскать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         </a:t>
            </a: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стартовый шифр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7</cp:lastModifiedBy>
  <dcterms:modified xsi:type="dcterms:W3CDTF">2013-05-07T02:24:3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